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65A51-B822-47B1-A6C6-2650553BA71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CECBB-69E3-4FD6-9959-6379D410EA8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A25DD-4E7A-48DB-83B8-87FC0C0C4EC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B3074-FE20-451B-A431-FA1CCC022ED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FFA4F-3FFE-40B1-99A7-77991CEED47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AD6AF-6C1F-409B-95FB-8E390F4123D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246FC-567D-44DD-98F0-FE4D2017FE8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4FE41-FB25-444F-A530-9119011F7B7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5AB9B-BBF0-4D68-B5B9-85316EE76D7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47C19-80B2-4919-9052-31C6066C70F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20174-9451-4128-A896-938E68B9CE5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82E80-7F1D-41C5-AECB-9AE5D21CE41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A0EA0-B825-43BE-9842-AF4F99448CD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77F15-C7BA-4548-8B3B-AA582CA37D2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C049A-A710-4EBE-AA5A-38477DD8B32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30DBE-F445-487F-AD58-07F66464500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C7C23-79FB-41D6-99F8-BB57E9182D9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EFB6A-A218-40BE-92BA-EBFEAB85300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DC29-31D7-46D7-B312-93CEAFF9E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E15C-1990-4029-BA5E-8D3AA0EC4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C7FA-9120-4FAD-B140-7C06659DC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4A47-8807-406F-973D-3B6892474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DE095-48F3-41DD-9149-7A3EA0E61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0FB8C-029C-4BFA-8DAD-DA6038A15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C54DA-B1E6-4D2F-B132-DDCCCBDCD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1216E-3B50-45D6-912A-5EFD1A6EB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E8F13-CB72-4046-BF29-8953487AF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B9472-1520-4D8A-920B-C5271316E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9B4E1-CD87-4974-ADED-3AD659817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1B0F-6B62-4875-8E8F-14598C05C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1AFB2-A73F-4AF6-886F-7488CB8C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732A8-AF24-40F2-A6C3-B01F10DE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8B93B-3472-4A9D-9C41-3C5D42B8B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C8DA8-A2F4-4A7F-9EB0-BDC14CBE3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CB1B7-2B4F-46D6-A6D6-21FBBAFBA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1C162A-6A32-4CC0-85E0-8A12159D8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BCE072-81C9-4620-BDC4-343DF15C0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5EE11E-10AC-4F7B-83E0-BC52D1D0C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3DAB08-38B9-478F-92C6-D0086908A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F05C83-43F3-4661-A5A6-30754E1A3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1C36-1446-406E-BC1B-B8EC29B2E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28C95F-30FC-417E-B1B7-330F383C7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3071E5-2945-405E-BB6D-EB722557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CEE27E-C222-4D84-9C10-255575A3B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F23CED-BEB5-4FBE-8F3D-4D141BC49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92601E-1800-4CB6-8FFE-43471397F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8E6F73-6E54-4983-9EB4-D535B08E7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FA58A8-5C9C-4BC3-B7ED-E1EF8B91F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302D18-94FA-4437-AFF7-AC78A4612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6D60EC-AFF4-4455-9A94-C25DEC69F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74C2E8-C6B9-437E-9CE5-153EE4347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85A1-B07B-4750-B1E3-248E706A7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45CB25-9012-4410-B475-C5049F94F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BE3D46-F48E-4635-BF20-D4F8F5CD7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16BDE8-2998-418E-A05B-C294A1103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D1CA4A-E8DF-4FD7-8BED-FB607906E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4AB96B-3758-4901-94B2-70BA34F7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FD5E89-5BDF-4304-BA04-1B088116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E68A3E-C10B-454F-A4D5-4BC4F5B96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AF732A-B873-4C0E-BAAA-031319847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8765FD-EA82-49ED-8DED-CD49766AF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58EAF4-BF7E-4E75-BBFA-26C9082CF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80FC-4176-4C31-BDCB-B29356F8C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2CDEE9-D103-43C3-BF29-1E1210C9C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EF80DD-A521-4B46-8E5E-7A7E2BE4C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FBC2E2-44CA-4C61-A391-289B7A544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676F66-2DC5-470E-893B-7E6C4EE7D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E12F6F-1E1F-475A-AF28-2BE1C42EA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B42C5B-EE67-439E-9CDA-D21494293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5251C4-A5D1-4945-B7B9-1B7ED9B70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81D493-175E-4E4C-8F78-0D1090CC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230FDD-AED3-4422-8814-C94596948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D5048D-84F1-4620-B101-9B31A7005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1620-0FB3-4945-B7A5-918BE3E36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37B90F-9A20-4B8C-864E-4B88BB13A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5AC4E5-A69E-4152-8229-6A4D0CF56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05E016-D0C2-4A66-9391-9FF309087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81742F-F1F2-4183-BB75-448350BB5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19C0C7-343A-4EBD-9503-9FA50FFBA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70B336-3195-4299-B268-06F8AD7C0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818EA9-B20A-48CD-84B8-50B1B86F3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E105C0-F830-4ED5-9C8C-5AF124623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25A532-6D2F-4D66-93EA-4F92424B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A858BE-5A63-4818-AC74-86FC67C9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F6FD-4467-4FFD-AFF5-D6E15A3AD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7C75E3-0A08-4514-8012-ECA410D81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ACAC66-A8B3-4F92-94EE-68CAB96AA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4A255C-191D-46F8-B794-21CE26990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A94EF9-303B-4054-8DAA-31F9D341B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8E211C-ED71-441D-8626-5DDFD8D5D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A1A352-E844-417B-B9D8-2BAD410DF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15E7A8-66FF-4CFC-AF73-85B6605A2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F3A0D8-F943-4214-9761-043A478BD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F51EBA-3EE0-4A20-93F2-3242C425A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8737C6-80F8-4B23-B880-CBC4DC592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880A-1D36-4CBF-ADFF-29EAFA676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E9168F-F196-4F3A-AEF4-4046BFC1F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7112B4-A889-4DBA-BE31-49BD43DB6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B24CD0-3C6B-4B3A-AB42-8CC9B06EE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D747CB-01AB-405F-AF9B-CFCD11570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007AD0-6971-4394-B80C-40D135788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2F38AB-47CD-4942-A3D1-869515C4D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A3C12B-628A-43A3-A755-86C994C1D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758567-8433-4E90-AE85-DF2525968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ACE63B-5175-4144-8C21-0B91798C1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FE0B2F-3817-4E2F-B3A3-918DEF2D0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2CA9-4FDD-4658-9309-B7EA1E863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E37E0E-D8EF-477F-9FAA-421AE4BB3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3D7A5C-FAC1-41B3-A4BB-6246F0E7A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17FD83-B4B3-423B-B11D-7D586A7F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F6B061-1455-4F8D-8156-4F95D656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0A078B-BB04-42A4-B19C-AF65982A1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2EA5D3-C1FC-40F0-BDB4-A6B9FEB40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7DDBD6-36A7-40A3-8585-CB11F4FF6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244E1-6F80-429E-833F-F162C2E5318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8BD2E-1F62-4869-98DB-9573EB214AA0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C9DE4-CBC6-4A1D-95F2-7546BFD17788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936E0-5CDC-4F58-A43F-94CDEA860E8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6069A-9D8B-438D-A33C-75FDCFB60D4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E3692-508E-4FB2-96DE-BAD24A0B7A02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33563-2BE8-4C86-B835-8DA595C29D62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AE9C5-9053-49EC-9831-AC6425D4ED6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Français 3 - Introduction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w Cen MT"/>
              </a:rPr>
              <a:t>Il/Elle est comment?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Lady Gaga, elle est comment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97" name="Picture 1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678168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Dane Cooke, il est comment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99" name="Picture 7" descr="danecook"/>
          <p:cNvPicPr/>
          <p:nvPr/>
        </p:nvPicPr>
        <p:blipFill>
          <a:blip r:embed="rId1"/>
          <a:stretch/>
        </p:blipFill>
        <p:spPr>
          <a:xfrm>
            <a:off x="2514600" y="1905120"/>
            <a:ext cx="39607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Barack Obama, il est comment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01" name="Picture 2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51051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25000" y="-360"/>
            <a:ext cx="889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Kim Kardashian, elle est comment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03" name="Picture 2" descr=""/>
          <p:cNvPicPr/>
          <p:nvPr/>
        </p:nvPicPr>
        <p:blipFill>
          <a:blip r:embed="rId1"/>
          <a:stretch/>
        </p:blipFill>
        <p:spPr>
          <a:xfrm>
            <a:off x="2514600" y="1028880"/>
            <a:ext cx="388620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Justin Timberlake, il est comment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05" name="Picture 1" descr=""/>
          <p:cNvPicPr/>
          <p:nvPr/>
        </p:nvPicPr>
        <p:blipFill>
          <a:blip r:embed="rId1"/>
          <a:stretch/>
        </p:blipFill>
        <p:spPr>
          <a:xfrm>
            <a:off x="2438280" y="1473120"/>
            <a:ext cx="381024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Paris Hilton, elle est comment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07" name="Picture 7" descr="http://www.gossipcheck.com/blog/wp-content/uploads/2009/03/paris_hilton_350x.jpg"/>
          <p:cNvPicPr/>
          <p:nvPr/>
        </p:nvPicPr>
        <p:blipFill>
          <a:blip r:embed="rId1"/>
          <a:stretch/>
        </p:blipFill>
        <p:spPr>
          <a:xfrm>
            <a:off x="2057400" y="1990800"/>
            <a:ext cx="421956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im Tebow, il est comment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09" name="Picture 1" descr=""/>
          <p:cNvPicPr/>
          <p:nvPr/>
        </p:nvPicPr>
        <p:blipFill>
          <a:blip r:embed="rId1"/>
          <a:stretch/>
        </p:blipFill>
        <p:spPr>
          <a:xfrm>
            <a:off x="2666880" y="1219320"/>
            <a:ext cx="35816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artman, il est comment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11" name="Picture 5" descr="cartman"/>
          <p:cNvPicPr/>
          <p:nvPr/>
        </p:nvPicPr>
        <p:blipFill>
          <a:blip r:embed="rId1"/>
          <a:stretch/>
        </p:blipFill>
        <p:spPr>
          <a:xfrm>
            <a:off x="2133720" y="1981080"/>
            <a:ext cx="5029200" cy="44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Révisons!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5" descr="200px-WillFerrell"/>
          <p:cNvPicPr/>
          <p:nvPr/>
        </p:nvPicPr>
        <p:blipFill>
          <a:blip r:embed="rId1"/>
          <a:stretch/>
        </p:blipFill>
        <p:spPr>
          <a:xfrm>
            <a:off x="2209680" y="1905120"/>
            <a:ext cx="4648320" cy="455616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ill Farrell, il est comment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775f55"/>
                </a:solidFill>
                <a:latin typeface="Tw Cen MT"/>
              </a:rPr>
              <a:t>Tu es comment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914400" y="5714640"/>
            <a:ext cx="77724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w Cen MT"/>
              </a:rPr>
              <a:t>AVOIR + # ANS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1" name="Picture 7" descr="nerd"/>
          <p:cNvPicPr/>
          <p:nvPr/>
        </p:nvPicPr>
        <p:blipFill>
          <a:blip r:embed="rId1"/>
          <a:stretch/>
        </p:blipFill>
        <p:spPr>
          <a:xfrm>
            <a:off x="2536920" y="1752480"/>
            <a:ext cx="4140000" cy="5105520"/>
          </a:xfrm>
          <a:prstGeom prst="rect">
            <a:avLst/>
          </a:prstGeom>
          <a:ln w="0">
            <a:noFill/>
          </a:ln>
        </p:spPr>
      </p:pic>
      <p:sp>
        <p:nvSpPr>
          <p:cNvPr id="362" name="AutoShape 8"/>
          <p:cNvSpPr/>
          <p:nvPr/>
        </p:nvSpPr>
        <p:spPr>
          <a:xfrm>
            <a:off x="5867280" y="1447920"/>
            <a:ext cx="2971800" cy="1523880"/>
          </a:xfrm>
          <a:prstGeom prst="wedgeRoundRectCallout">
            <a:avLst>
              <a:gd name="adj1" fmla="val -65759"/>
              <a:gd name="adj2" fmla="val 175208"/>
              <a:gd name="adj3" fmla="val 16667"/>
            </a:avLst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Bonjour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J’ai 18 ans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5"/>
          <p:cNvSpPr/>
          <p:nvPr/>
        </p:nvSpPr>
        <p:spPr>
          <a:xfrm>
            <a:off x="914400" y="5791320"/>
            <a:ext cx="77724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AVOIR + # + </a:t>
            </a:r>
            <a:r>
              <a:rPr b="0" i="1" lang="fr-FR" sz="2900" spc="-1" strike="noStrike">
                <a:solidFill>
                  <a:srgbClr val="000000"/>
                </a:solidFill>
                <a:latin typeface="Tw Cen MT"/>
              </a:rPr>
              <a:t>an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1"/>
          <p:cNvSpPr/>
          <p:nvPr/>
        </p:nvSpPr>
        <p:spPr>
          <a:xfrm>
            <a:off x="228600" y="1676520"/>
            <a:ext cx="3352680" cy="1447560"/>
          </a:xfrm>
          <a:prstGeom prst="rect">
            <a:avLst/>
          </a:prstGeom>
          <a:solidFill>
            <a:srgbClr val="94b6d2"/>
          </a:solidFill>
          <a:ln w="10080">
            <a:solidFill>
              <a:srgbClr val="94b6d2"/>
            </a:solidFill>
            <a:miter/>
          </a:ln>
          <a:effectLst>
            <a:outerShdw dist="29880" dir="5400000" blurRad="0" rotWithShape="0">
              <a:srgbClr val="80808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Tw Cen MT"/>
              </a:rPr>
              <a:t>Pour parler de son â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Lady Gaga, elle est comment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16" name="Picture 1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678168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Dane Cooke, il est comment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18" name="Picture 7" descr="danecook"/>
          <p:cNvPicPr/>
          <p:nvPr/>
        </p:nvPicPr>
        <p:blipFill>
          <a:blip r:embed="rId1"/>
          <a:stretch/>
        </p:blipFill>
        <p:spPr>
          <a:xfrm>
            <a:off x="2514600" y="1905120"/>
            <a:ext cx="39607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Barack Obama, il est comment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51051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25000" y="-360"/>
            <a:ext cx="889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Kim Kardashian, elle est comment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22" name="Picture 2" descr=""/>
          <p:cNvPicPr/>
          <p:nvPr/>
        </p:nvPicPr>
        <p:blipFill>
          <a:blip r:embed="rId1"/>
          <a:stretch/>
        </p:blipFill>
        <p:spPr>
          <a:xfrm>
            <a:off x="2514600" y="1028880"/>
            <a:ext cx="388620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Justin Timberlake, il est comment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24" name="Picture 1" descr=""/>
          <p:cNvPicPr/>
          <p:nvPr/>
        </p:nvPicPr>
        <p:blipFill>
          <a:blip r:embed="rId1"/>
          <a:stretch/>
        </p:blipFill>
        <p:spPr>
          <a:xfrm>
            <a:off x="2438280" y="1473120"/>
            <a:ext cx="381024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Paris Hilton, elle est comment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26" name="Picture 7" descr="http://www.gossipcheck.com/blog/wp-content/uploads/2009/03/paris_hilton_350x.jpg"/>
          <p:cNvPicPr/>
          <p:nvPr/>
        </p:nvPicPr>
        <p:blipFill>
          <a:blip r:embed="rId1"/>
          <a:stretch/>
        </p:blipFill>
        <p:spPr>
          <a:xfrm>
            <a:off x="2057400" y="1990800"/>
            <a:ext cx="421956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im Tebow, il est comment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28" name="Picture 1" descr=""/>
          <p:cNvPicPr/>
          <p:nvPr/>
        </p:nvPicPr>
        <p:blipFill>
          <a:blip r:embed="rId1"/>
          <a:stretch/>
        </p:blipFill>
        <p:spPr>
          <a:xfrm>
            <a:off x="2666880" y="1219320"/>
            <a:ext cx="35816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artman, il est comment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30" name="Picture 5" descr="cartman"/>
          <p:cNvPicPr/>
          <p:nvPr/>
        </p:nvPicPr>
        <p:blipFill>
          <a:blip r:embed="rId1"/>
          <a:stretch/>
        </p:blipFill>
        <p:spPr>
          <a:xfrm>
            <a:off x="2133720" y="1981080"/>
            <a:ext cx="5029200" cy="44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775f55"/>
                </a:solidFill>
                <a:latin typeface="Tw Cen MT"/>
              </a:rPr>
              <a:t>Vous êtes comment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914400" y="5714640"/>
            <a:ext cx="77724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AVOIR + NOU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7" name="Picture 7" descr="gm20--siamese-cat"/>
          <p:cNvPicPr/>
          <p:nvPr/>
        </p:nvPicPr>
        <p:blipFill>
          <a:blip r:embed="rId1"/>
          <a:stretch/>
        </p:blipFill>
        <p:spPr>
          <a:xfrm>
            <a:off x="2413080" y="1905120"/>
            <a:ext cx="4673520" cy="471492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9"/>
          <p:cNvSpPr/>
          <p:nvPr/>
        </p:nvSpPr>
        <p:spPr>
          <a:xfrm>
            <a:off x="0" y="2133720"/>
            <a:ext cx="2590920" cy="2743200"/>
          </a:xfrm>
          <a:prstGeom prst="wedgeRoundRectCallout">
            <a:avLst>
              <a:gd name="adj1" fmla="val 75120"/>
              <a:gd name="adj2" fmla="val 85648"/>
              <a:gd name="adj3" fmla="val 16667"/>
            </a:avLst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J’ai les yeux bleus. Miaou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5"/>
          <p:cNvSpPr/>
          <p:nvPr/>
        </p:nvSpPr>
        <p:spPr>
          <a:xfrm>
            <a:off x="914400" y="5791320"/>
            <a:ext cx="77724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AVOIR + </a:t>
            </a:r>
            <a:r>
              <a:rPr b="0" i="1" lang="fr-FR" sz="2900" spc="-1" strike="noStrike">
                <a:solidFill>
                  <a:srgbClr val="000000"/>
                </a:solidFill>
                <a:latin typeface="Tw Cen MT"/>
              </a:rPr>
              <a:t>les yeux </a:t>
            </a: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__________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6"/>
          <p:cNvSpPr/>
          <p:nvPr/>
        </p:nvSpPr>
        <p:spPr>
          <a:xfrm>
            <a:off x="5486400" y="762120"/>
            <a:ext cx="3352680" cy="1447560"/>
          </a:xfrm>
          <a:prstGeom prst="rect">
            <a:avLst/>
          </a:prstGeom>
          <a:solidFill>
            <a:srgbClr val="94b6d2"/>
          </a:solidFill>
          <a:ln w="10080">
            <a:solidFill>
              <a:srgbClr val="94b6d2"/>
            </a:solidFill>
            <a:miter/>
          </a:ln>
          <a:effectLst>
            <a:outerShdw dist="29880" dir="5400000" blurRad="0" rotWithShape="0">
              <a:srgbClr val="80808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Tw Cen MT"/>
              </a:rPr>
              <a:t>Pour parler de sa phys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7" descr="shorthair"/>
          <p:cNvPicPr/>
          <p:nvPr/>
        </p:nvPicPr>
        <p:blipFill>
          <a:blip r:embed="rId1"/>
          <a:stretch/>
        </p:blipFill>
        <p:spPr>
          <a:xfrm>
            <a:off x="1219320" y="175248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775f55"/>
                </a:solidFill>
                <a:latin typeface="Tw Cen MT"/>
              </a:rPr>
              <a:t>Vous êtes comment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914400" y="5790960"/>
            <a:ext cx="77724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AVOIR + </a:t>
            </a:r>
            <a:r>
              <a:rPr b="0" i="1" lang="fr-FR" sz="2900" spc="-1" strike="noStrike">
                <a:solidFill>
                  <a:srgbClr val="000000"/>
                </a:solidFill>
                <a:latin typeface="Tw Cen MT"/>
              </a:rPr>
              <a:t>les cheveux _________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" name="AutoShape 4"/>
          <p:cNvSpPr/>
          <p:nvPr/>
        </p:nvSpPr>
        <p:spPr>
          <a:xfrm>
            <a:off x="6567480" y="3124080"/>
            <a:ext cx="2590920" cy="2057400"/>
          </a:xfrm>
          <a:prstGeom prst="wedgeRoundRectCallout">
            <a:avLst>
              <a:gd name="adj1" fmla="val -98351"/>
              <a:gd name="adj2" fmla="val 62226"/>
              <a:gd name="adj3" fmla="val 16667"/>
            </a:avLst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J’ai les cheveux cour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5"/>
          <p:cNvSpPr/>
          <p:nvPr/>
        </p:nvSpPr>
        <p:spPr>
          <a:xfrm>
            <a:off x="5562720" y="304920"/>
            <a:ext cx="3352680" cy="1447560"/>
          </a:xfrm>
          <a:prstGeom prst="rect">
            <a:avLst/>
          </a:prstGeom>
          <a:solidFill>
            <a:srgbClr val="94b6d2"/>
          </a:solidFill>
          <a:ln w="10080">
            <a:solidFill>
              <a:srgbClr val="94b6d2"/>
            </a:solidFill>
            <a:miter/>
          </a:ln>
          <a:effectLst>
            <a:outerShdw dist="29880" dir="5400000" blurRad="0" rotWithShape="0">
              <a:srgbClr val="80808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Tw Cen MT"/>
              </a:rPr>
              <a:t>Pour parler de sa phys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7" descr="the_happy_carpenters_2nd_cousin"/>
          <p:cNvPicPr/>
          <p:nvPr/>
        </p:nvPicPr>
        <p:blipFill>
          <a:blip r:embed="rId1"/>
          <a:stretch/>
        </p:blipFill>
        <p:spPr>
          <a:xfrm>
            <a:off x="3048120" y="1676520"/>
            <a:ext cx="3443040" cy="518148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775f55"/>
                </a:solidFill>
                <a:latin typeface="Tw Cen MT"/>
              </a:rPr>
              <a:t>Vous êtes comment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914400" y="5790960"/>
            <a:ext cx="77724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AVOIR + </a:t>
            </a:r>
            <a:r>
              <a:rPr b="0" i="1" lang="fr-FR" sz="2900" spc="-1" strike="noStrike">
                <a:solidFill>
                  <a:srgbClr val="000000"/>
                </a:solidFill>
                <a:latin typeface="Tw Cen MT"/>
              </a:rPr>
              <a:t>les cheveux _________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9" name="AutoShape 5"/>
          <p:cNvSpPr/>
          <p:nvPr/>
        </p:nvSpPr>
        <p:spPr>
          <a:xfrm>
            <a:off x="304920" y="1752480"/>
            <a:ext cx="2590560" cy="2057400"/>
          </a:xfrm>
          <a:prstGeom prst="wedgeRoundRectCallout">
            <a:avLst>
              <a:gd name="adj1" fmla="val 100120"/>
              <a:gd name="adj2" fmla="val 109569"/>
              <a:gd name="adj3" fmla="val 16667"/>
            </a:avLst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J’ai les cheveux long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Rectangle 5"/>
          <p:cNvSpPr/>
          <p:nvPr/>
        </p:nvSpPr>
        <p:spPr>
          <a:xfrm>
            <a:off x="5486400" y="228600"/>
            <a:ext cx="3352680" cy="1447920"/>
          </a:xfrm>
          <a:prstGeom prst="rect">
            <a:avLst/>
          </a:prstGeom>
          <a:solidFill>
            <a:srgbClr val="94b6d2"/>
          </a:solidFill>
          <a:ln w="10080">
            <a:solidFill>
              <a:srgbClr val="94b6d2"/>
            </a:solidFill>
            <a:miter/>
          </a:ln>
          <a:effectLst>
            <a:outerShdw dist="29880" dir="5400000" blurRad="0" rotWithShape="0">
              <a:srgbClr val="80808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Tw Cen MT"/>
              </a:rPr>
              <a:t>Pour parler de sa phys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7" descr="43006056_913807e81d"/>
          <p:cNvPicPr/>
          <p:nvPr/>
        </p:nvPicPr>
        <p:blipFill>
          <a:blip r:embed="rId1"/>
          <a:stretch/>
        </p:blipFill>
        <p:spPr>
          <a:xfrm>
            <a:off x="1371600" y="1712880"/>
            <a:ext cx="7315200" cy="491652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775f55"/>
                </a:solidFill>
                <a:latin typeface="Tw Cen MT"/>
              </a:rPr>
              <a:t>Vous êtes comment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914400" y="5790960"/>
            <a:ext cx="77724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AVOIR + </a:t>
            </a:r>
            <a:r>
              <a:rPr b="0" i="1" lang="fr-FR" sz="2900" spc="-1" strike="noStrike">
                <a:solidFill>
                  <a:srgbClr val="000000"/>
                </a:solidFill>
                <a:latin typeface="Tw Cen MT"/>
              </a:rPr>
              <a:t>les cheveux _________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AutoShape 5"/>
          <p:cNvSpPr/>
          <p:nvPr/>
        </p:nvSpPr>
        <p:spPr>
          <a:xfrm>
            <a:off x="6095880" y="1752480"/>
            <a:ext cx="2590920" cy="2057400"/>
          </a:xfrm>
          <a:prstGeom prst="wedgeRoundRectCallout">
            <a:avLst>
              <a:gd name="adj1" fmla="val -79287"/>
              <a:gd name="adj2" fmla="val 96324"/>
              <a:gd name="adj3" fmla="val 16667"/>
            </a:avLst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J’ai les cheveux roux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5"/>
          <p:cNvSpPr/>
          <p:nvPr/>
        </p:nvSpPr>
        <p:spPr>
          <a:xfrm>
            <a:off x="5486400" y="152280"/>
            <a:ext cx="3352680" cy="1447920"/>
          </a:xfrm>
          <a:prstGeom prst="rect">
            <a:avLst/>
          </a:prstGeom>
          <a:solidFill>
            <a:srgbClr val="94b6d2"/>
          </a:solidFill>
          <a:ln w="10080">
            <a:solidFill>
              <a:srgbClr val="94b6d2"/>
            </a:solidFill>
            <a:miter/>
          </a:ln>
          <a:effectLst>
            <a:outerShdw dist="29880" dir="5400000" blurRad="0" rotWithShape="0">
              <a:srgbClr val="80808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Tw Cen MT"/>
              </a:rPr>
              <a:t>Pour parler de sa phys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7" descr="yao_ming"/>
          <p:cNvPicPr/>
          <p:nvPr/>
        </p:nvPicPr>
        <p:blipFill>
          <a:blip r:embed="rId1"/>
          <a:stretch/>
        </p:blipFill>
        <p:spPr>
          <a:xfrm>
            <a:off x="2286000" y="1828800"/>
            <a:ext cx="4459320" cy="784872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775f55"/>
                </a:solidFill>
                <a:latin typeface="Tw Cen MT"/>
              </a:rPr>
              <a:t>Vous êtes comment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914400" y="5790960"/>
            <a:ext cx="77724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ÊTRE + ADJECTIF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AutoShape 5"/>
          <p:cNvSpPr/>
          <p:nvPr/>
        </p:nvSpPr>
        <p:spPr>
          <a:xfrm>
            <a:off x="6324480" y="4191120"/>
            <a:ext cx="2590920" cy="1523880"/>
          </a:xfrm>
          <a:prstGeom prst="wedgeRoundRectCallout">
            <a:avLst>
              <a:gd name="adj1" fmla="val -75490"/>
              <a:gd name="adj2" fmla="val -146773"/>
              <a:gd name="adj3" fmla="val 16667"/>
            </a:avLst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Je suis grand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AutoShape 5"/>
          <p:cNvSpPr/>
          <p:nvPr/>
        </p:nvSpPr>
        <p:spPr>
          <a:xfrm>
            <a:off x="304920" y="1828800"/>
            <a:ext cx="2590560" cy="1523880"/>
          </a:xfrm>
          <a:prstGeom prst="wedgeRoundRectCallout">
            <a:avLst>
              <a:gd name="adj1" fmla="val 49254"/>
              <a:gd name="adj2" fmla="val 104606"/>
              <a:gd name="adj3" fmla="val 16667"/>
            </a:avLst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Je suis petit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6"/>
          <p:cNvSpPr/>
          <p:nvPr/>
        </p:nvSpPr>
        <p:spPr>
          <a:xfrm>
            <a:off x="5486400" y="380880"/>
            <a:ext cx="3352680" cy="1447920"/>
          </a:xfrm>
          <a:prstGeom prst="rect">
            <a:avLst/>
          </a:prstGeom>
          <a:solidFill>
            <a:srgbClr val="94b6d2"/>
          </a:solidFill>
          <a:ln w="10080">
            <a:solidFill>
              <a:srgbClr val="94b6d2"/>
            </a:solidFill>
            <a:miter/>
          </a:ln>
          <a:effectLst>
            <a:outerShdw dist="29880" dir="5400000" blurRad="0" rotWithShape="0">
              <a:srgbClr val="80808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Tw Cen MT"/>
              </a:rPr>
              <a:t>Pour parler de sa phys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Instruc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ravaillez avec la personne à côté de vou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réez des descriptions des personnes suivante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Vous pouvez mentioner des aspects de leur physique et leur caractèr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Vous comprenez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llons-y!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5" descr="200px-WillFerrell"/>
          <p:cNvPicPr/>
          <p:nvPr/>
        </p:nvPicPr>
        <p:blipFill>
          <a:blip r:embed="rId1"/>
          <a:stretch/>
        </p:blipFill>
        <p:spPr>
          <a:xfrm>
            <a:off x="2209680" y="1905120"/>
            <a:ext cx="4648320" cy="455616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ill Farrell, il est comment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00:08:49Z</dcterms:created>
  <dc:creator>Mr. Smith</dc:creator>
  <dc:description/>
  <dc:language>en-US</dc:language>
  <cp:lastModifiedBy>Edouard Smith</cp:lastModifiedBy>
  <dcterms:modified xsi:type="dcterms:W3CDTF">2013-09-12T14:14:57Z</dcterms:modified>
  <cp:revision>80</cp:revision>
  <dc:subject/>
  <dc:title>Allez, viens! – Level 2</dc:title>
</cp:coreProperties>
</file>